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cashreg.wav" ContentType="audio/x-wav"/>
  <Override PartName="/ppt/media/image9.wmf" ContentType="image/x-wmf"/>
  <Override PartName="/ppt/media/image8.gif" ContentType="image/gif"/>
  <Override PartName="/ppt/media/image1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1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gif" ContentType="image/gi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E28-5D3F-45FE-9D94-2DDC57D8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B2F-6928-4F4A-A819-3F8F5A8B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3F0-F833-47A0-BB11-7DA892CA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B07-0304-4A39-A9B8-A3E4A4A9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9C3F-0A96-4534-9B29-4BD7398A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64C7-67C3-4D4B-8623-B0A5CE3C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33C7-4BF1-49EE-B817-392B692B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8510-889B-4110-9273-3A7DEE6E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312D-77CD-4916-A32A-98B3111D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A90D-A441-41BD-B84B-14DB7306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0EC3-7003-4CDF-BA9C-4AB869C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1AA-8B5E-4740-9924-7D1EA5E5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B49A-DBEE-42FA-AC72-30274384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7804-8871-4698-9C73-9B78B633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ADCD-FFEF-465C-ADC7-1077DB4B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20B4-D34F-4D42-81A5-C38993EE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B06D-DC31-4628-9C32-83C98FEB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253-AECA-4788-8B9F-8C8FE68A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567-F189-4224-9AB5-28480EA0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947-E8A4-470C-A0D3-5F80B2DE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8C8-DB4B-4B8F-8B63-DA0F7321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176-7C70-4D48-85AA-FCE7D15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198-2CD0-403E-95E9-6FAC5C4E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092-4596-4A85-A72B-40EEF6F1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F11-4565-423B-A7EA-92FCED46D9E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0ACD-1EFB-466B-9061-4F38F364352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go.com/Split?col=WR&amp;qt=george+washington&amp;Go=GO!&amp;nh=1&amp;pat=imd&amp;sf=1&amp;svx=WD_thumb&amp;st=3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.com/Split?pns=0&amp;qt=%22serial+killer%22&amp;col=MC&amp;nh=1&amp;pat=imd&amp;st=0&amp;svx=WD_thumb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99"/>
                </a:solidFill>
                <a:latin typeface="Times New Roman"/>
              </a:rPr>
              <a:t>The Game of Politics</a:t>
            </a:r>
            <a:endParaRPr b="0" lang="en-US" sz="88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581280" cy="3336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All people want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change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for the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better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question really is, “How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u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do I have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o do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to have an impact on my community or nation?”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or many, the cost is too high!  So they do little. </a:t>
            </a:r>
            <a:r>
              <a:rPr b="0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1143000"/>
            <a:ext cx="154476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81080" y="533520"/>
            <a:ext cx="6629400" cy="1752480"/>
          </a:xfrm>
          <a:prstGeom prst="downArrowCallout">
            <a:avLst>
              <a:gd name="adj1" fmla="val 49112"/>
              <a:gd name="adj2" fmla="val 39580"/>
              <a:gd name="adj3" fmla="val 13079"/>
              <a:gd name="adj4" fmla="val 66667"/>
            </a:avLst>
          </a:prstGeom>
          <a:solidFill>
            <a:srgbClr val="80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undamental </a:t>
            </a:r>
            <a:r>
              <a:rPr b="0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fficacy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2438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irst:  Gaining knowledge, and then building conviction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Conviction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:  Standing firm with what you know is tru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1643040" cy="3700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838440" cy="237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77320" y="3352680"/>
            <a:ext cx="838080" cy="2373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71800" y="371808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spectrum is where you have a range of possibilities with two extreme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extr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7913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other extr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905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Lef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96080" y="1905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Righ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31240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onservativ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1240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iber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0481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oderat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4956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Be careful about committing to being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moderate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!  Many moderates are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indecisive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wishy-washy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3505320" cy="159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4994280" cy="439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417024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52480" y="51814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 most important thing is that you are always willing to learn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Political culture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refers to all the ways people think and feel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life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should be in shared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society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19076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 what ways can we resolve our conflicts peacefully in the “public square”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417024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51814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re is always a right &amp; wrong to every issue, even if very complex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81080" y="533520"/>
            <a:ext cx="6629400" cy="1752480"/>
          </a:xfrm>
          <a:prstGeom prst="downArrowCallout">
            <a:avLst>
              <a:gd name="adj1" fmla="val 49112"/>
              <a:gd name="adj2" fmla="val 39580"/>
              <a:gd name="adj3" fmla="val 13079"/>
              <a:gd name="adj4" fmla="val 66667"/>
            </a:avLst>
          </a:prstGeom>
          <a:solidFill>
            <a:srgbClr val="80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undamental </a:t>
            </a:r>
            <a:r>
              <a:rPr b="0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fficacy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520" y="2438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econdly:  Become active, participate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Voting / speaking out formal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ampaigning, working for a candidate or issu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Running for offic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oting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Political partie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are an inescapable part of the process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hat are they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y are organizations based on common political principles used to affect public policy on a wide scal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y seek to control government by gaining and holding public offic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Political partie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are an inescapable part of the process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hat do they do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ominate candidate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form the public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0" y="1905120"/>
            <a:ext cx="1925640" cy="2209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939680" cy="2133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19320" y="4489560"/>
            <a:ext cx="76197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rganize government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prove legislatio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Keep party in power in check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ir number one objective: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Times New Roman"/>
              </a:rPr>
              <a:t>To get candidates elected!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3048120" cy="2660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Originally, the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founder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did not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anticipate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having them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oday, the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Republicans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and the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Democrats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       are the two major parties.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155000" y="4343400"/>
            <a:ext cx="1989000" cy="1469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00400" y="4419720"/>
            <a:ext cx="1752480" cy="1066680"/>
          </a:xfrm>
          <a:prstGeom prst="wedgeRoundRectCallout">
            <a:avLst>
              <a:gd name="adj1" fmla="val -66759"/>
              <a:gd name="adj2" fmla="val 22768"/>
              <a:gd name="adj3" fmla="val 16667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ote Dem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4419720"/>
            <a:ext cx="1752480" cy="1066680"/>
          </a:xfrm>
          <a:prstGeom prst="wedgeRoundRectCallout">
            <a:avLst>
              <a:gd name="adj1" fmla="val 67208"/>
              <a:gd name="adj2" fmla="val 18305"/>
              <a:gd name="adj3" fmla="val 16667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ote GOP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58672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at about other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53280" y="5791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t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Interest group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are also designed to have an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impact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on government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affair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3047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at are thes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eople with specific objectives who try to influence policy makers in governmen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511960" y="2209680"/>
            <a:ext cx="3632040" cy="1733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What interest groups do: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present concerns of common citizens.  (You can join one </a:t>
            </a:r>
            <a:r>
              <a:rPr b="0" lang="en-US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!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elp citizens explain complex views to public official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aise public awareness of particular issues of concer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What interest groups do: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form public officials with detailed information about specialized subject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Serve as a check on public officials and other interest groups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o no one person or group has too much power!)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How are interest groups different from political parties?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ir concerns are much more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narrow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in scop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y don’t have candidates themselve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y just want to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influence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office holder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There are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shared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values such as</a:t>
            </a:r>
            <a:endParaRPr b="0" lang="en-US" sz="5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liberty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quality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ivic duty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3341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an you think of any other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2438280"/>
            <a:ext cx="3429000" cy="1981440"/>
          </a:xfrm>
          <a:prstGeom prst="rect">
            <a:avLst/>
          </a:prstGeom>
          <a:solidFill>
            <a:srgbClr val="9d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10080" y="2590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Pluribus Unum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589480" cy="3457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individuals who actually visit members of Congress to try to get them to vote they way they want are called </a:t>
            </a:r>
            <a:r>
              <a:rPr b="0" lang="en-US" sz="4400" spc="-1" strike="noStrike" u="sng">
                <a:solidFill>
                  <a:srgbClr val="ffcc99"/>
                </a:solidFill>
                <a:uFillTx/>
                <a:latin typeface="Times New Roman"/>
              </a:rPr>
              <a:t>lobbyists</a:t>
            </a: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240" y="3047760"/>
            <a:ext cx="5257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omes from waiting in the </a:t>
            </a: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lobby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outside the Senate and House chamber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y must be very persuasive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2892600"/>
            <a:ext cx="8229600" cy="1066680"/>
            <a:chOff x="457200" y="2892600"/>
            <a:chExt cx="8229600" cy="1066680"/>
          </a:xfrm>
        </p:grpSpPr>
        <p:sp>
          <p:nvSpPr>
            <p:cNvPr id="213" name=""/>
            <p:cNvSpPr/>
            <p:nvPr/>
          </p:nvSpPr>
          <p:spPr>
            <a:xfrm>
              <a:off x="457200" y="28926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57200" y="2892600"/>
              <a:ext cx="7886880" cy="1066680"/>
              <a:chOff x="457200" y="2892600"/>
              <a:chExt cx="7886880" cy="1066680"/>
            </a:xfrm>
          </p:grpSpPr>
          <p:sp>
            <p:nvSpPr>
              <p:cNvPr id="215" name=""/>
              <p:cNvSpPr/>
              <p:nvPr/>
            </p:nvSpPr>
            <p:spPr>
              <a:xfrm>
                <a:off x="457200" y="2892600"/>
                <a:ext cx="7886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7200" y="2892600"/>
                <a:ext cx="788688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ffcc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US" sz="6400" spc="-1" strike="noStrike">
                    <a:solidFill>
                      <a:srgbClr val="eaeaea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       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An important arm of interest groups are…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3520" y="33523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olitical Action Committe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ir specific purpose is to raise and </a:t>
            </a:r>
            <a:r>
              <a:rPr b="0" lang="en-US" sz="4400" spc="-1" strike="noStrike">
                <a:solidFill>
                  <a:srgbClr val="00cc00"/>
                </a:solidFill>
                <a:latin typeface="Arial Black"/>
              </a:rPr>
              <a:t>give money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to candidates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19051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Arial Black"/>
              </a:rPr>
              <a:t>PAC’s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124080" y="0"/>
            <a:ext cx="5791320" cy="6476760"/>
            <a:chOff x="3124080" y="0"/>
            <a:chExt cx="5791320" cy="6476760"/>
          </a:xfrm>
        </p:grpSpPr>
        <p:sp>
          <p:nvSpPr>
            <p:cNvPr id="221" name=""/>
            <p:cNvSpPr/>
            <p:nvPr/>
          </p:nvSpPr>
          <p:spPr>
            <a:xfrm>
              <a:off x="3124080" y="0"/>
              <a:ext cx="5791320" cy="647676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52680" y="176040"/>
              <a:ext cx="5562720" cy="61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Candidates need lots of money! 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For media coverage, to hire people to work to get him known, for travel and other expenses…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How do you think they expect to get all that money?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606680"/>
            <a:ext cx="3124080" cy="3074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What can be the problem with all this?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ink about it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3581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Lobbyi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6576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Politici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2589480" cy="3457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What can be the problem with all this?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ink about it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2589480" cy="3457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1574640" cy="166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143000" y="3581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Lobbyi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36576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Politici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 of Interest Group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ARP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Association of Retired Person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E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Education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AD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thers Against Drunk Driv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ierra Clu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hamber of Commerce of the United Stat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FL-CI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League of Women Voter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onsumers Unio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A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Medical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RA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Rifle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ACP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Association for the Advancement of Colored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Bar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Council of Church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CLU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Civil Liberties Un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F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ouncil on Foreign Relation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ommon Caus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A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Automobile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Audubon Societ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ALDEF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exican American Legal Defense and Education Fun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ssociated Milk Producer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nternational Brotherhood of Teamsters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ulip Growers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You guys ready to get out of here and eat </a:t>
            </a:r>
            <a:r>
              <a:rPr b="0" lang="en-US" sz="4400" spc="-1" strike="noStrike" u="sng">
                <a:solidFill>
                  <a:srgbClr val="ffcc99"/>
                </a:solidFill>
                <a:uFillTx/>
                <a:latin typeface="Times New Roman"/>
              </a:rPr>
              <a:t>already</a:t>
            </a: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ll, all right, then…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457200"/>
            <a:ext cx="2895480" cy="5867280"/>
          </a:xfrm>
          <a:prstGeom prst="wedgeRoundRectCallout">
            <a:avLst>
              <a:gd name="adj1" fmla="val 72259"/>
              <a:gd name="adj2" fmla="val 2976"/>
              <a:gd name="adj3" fmla="val 16667"/>
            </a:avLst>
          </a:prstGeom>
          <a:solidFill>
            <a:srgbClr val="3333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Haettenschweiler"/>
              </a:rPr>
              <a:t>Here’s your lunch you cute little brats!  These peas are especially good, I got them from a can I pulled from way in the back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2209680"/>
            <a:ext cx="2971800" cy="4191120"/>
          </a:xfrm>
          <a:prstGeom prst="wedgeRoundRectCallout">
            <a:avLst>
              <a:gd name="adj1" fmla="val -58601"/>
              <a:gd name="adj2" fmla="val -34319"/>
              <a:gd name="adj3" fmla="val 16667"/>
            </a:avLst>
          </a:prstGeom>
          <a:solidFill>
            <a:srgbClr val="3333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Haettenschweiler"/>
              </a:rPr>
              <a:t>If you eat all your lunch you can have our special dessert!  Fudge Jello Celery Surprise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Tolerance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is a key value today, referring to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differing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values.</a:t>
            </a:r>
            <a:endParaRPr b="0" lang="en-US" sz="5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304776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What really </a:t>
            </a:r>
            <a:r>
              <a:rPr b="0" i="1" lang="en-US" sz="4400" spc="-1" strike="noStrike">
                <a:solidFill>
                  <a:srgbClr val="eaeaea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tolerance and how has it been distorted today?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Key question in all this:   </a:t>
            </a:r>
            <a:r>
              <a:rPr b="0" lang="en-US" sz="4400" spc="-1" strike="noStrike" u="sng">
                <a:solidFill>
                  <a:srgbClr val="eaeaea"/>
                </a:solidFill>
                <a:uFillTx/>
                <a:latin typeface="Times New Roman"/>
              </a:rPr>
              <a:t>What beliefs do we </a:t>
            </a:r>
            <a:r>
              <a:rPr b="0" i="1" lang="en-US" sz="4400" spc="-1" strike="noStrike" u="sng">
                <a:solidFill>
                  <a:srgbClr val="eaeaea"/>
                </a:solidFill>
                <a:uFillTx/>
                <a:latin typeface="Times New Roman"/>
              </a:rPr>
              <a:t>share</a:t>
            </a:r>
            <a:r>
              <a:rPr b="0" i="1" lang="en-US" sz="44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How come those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values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have been inconsistent with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practice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440" y="274320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n example is </a:t>
            </a:r>
            <a:r>
              <a:rPr b="0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slavery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Didn’t we say a long time ago 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“All men are created equal”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?…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Problem is that these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value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can be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vague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gain: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(we’ve asked these before…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What does “equality” really mean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How much “liberty” should one have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And that is why many times there are conflicting rights claims!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any times you claim you can do something and I claim I can do something else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d this situation is always much more complex than we think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When large groups of people are involved…</a:t>
            </a:r>
            <a:br>
              <a:rPr sz="4800"/>
            </a:b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Such as in this country…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eaeaea"/>
                </a:solidFill>
                <a:latin typeface="Times New Roman"/>
              </a:rPr>
              <a:t>Then politics plays a big part!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(And that means you’re in there somewhere!)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533520"/>
            <a:ext cx="4494960" cy="5790600"/>
            <a:chOff x="304920" y="533520"/>
            <a:chExt cx="4494960" cy="57906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2803320" cy="57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1775160" y="1772640"/>
              <a:ext cx="3024720" cy="2208600"/>
              <a:chOff x="1775160" y="1772640"/>
              <a:chExt cx="3024720" cy="2208600"/>
            </a:xfrm>
          </p:grpSpPr>
          <p:sp>
            <p:nvSpPr>
              <p:cNvPr id="105" name=""/>
              <p:cNvSpPr/>
              <p:nvPr/>
            </p:nvSpPr>
            <p:spPr>
              <a:xfrm rot="17053200">
                <a:off x="2469600" y="1537920"/>
                <a:ext cx="1599840" cy="2678040"/>
              </a:xfrm>
              <a:prstGeom prst="upArrowCallout">
                <a:avLst>
                  <a:gd name="adj1" fmla="val 11788"/>
                  <a:gd name="adj2" fmla="val 13269"/>
                  <a:gd name="adj3" fmla="val 31061"/>
                  <a:gd name="adj4" fmla="val 69309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82600" y="265608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But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involvement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in government depends on feelings of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efficacy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is is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how much an individual feels he or she can affect political events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2892600"/>
            <a:ext cx="8229600" cy="1066680"/>
            <a:chOff x="457200" y="2892600"/>
            <a:chExt cx="8229600" cy="1066680"/>
          </a:xfrm>
        </p:grpSpPr>
        <p:sp>
          <p:nvSpPr>
            <p:cNvPr id="110" name=""/>
            <p:cNvSpPr/>
            <p:nvPr/>
          </p:nvSpPr>
          <p:spPr>
            <a:xfrm>
              <a:off x="457200" y="28926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57200" y="2892600"/>
              <a:ext cx="7886880" cy="1066680"/>
              <a:chOff x="457200" y="2892600"/>
              <a:chExt cx="7886880" cy="1066680"/>
            </a:xfrm>
          </p:grpSpPr>
          <p:sp>
            <p:nvSpPr>
              <p:cNvPr id="112" name=""/>
              <p:cNvSpPr/>
              <p:nvPr/>
            </p:nvSpPr>
            <p:spPr>
              <a:xfrm>
                <a:off x="457200" y="2892600"/>
                <a:ext cx="7886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7200" y="2892600"/>
                <a:ext cx="788688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ffcc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n-US" sz="6400" spc="-1" strike="noStrike">
                    <a:solidFill>
                      <a:srgbClr val="eaeaea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          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1600200" y="2895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How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effecti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can be in the public square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57400" y="228600"/>
            <a:ext cx="6705720" cy="3468600"/>
            <a:chOff x="2057400" y="228600"/>
            <a:chExt cx="6705720" cy="34686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2057400" y="228600"/>
              <a:ext cx="307512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334120" y="380880"/>
              <a:ext cx="3429000" cy="1828800"/>
            </a:xfrm>
            <a:prstGeom prst="wedgeRoundRectCallout">
              <a:avLst>
                <a:gd name="adj1" fmla="val -73287"/>
                <a:gd name="adj2" fmla="val 38629"/>
                <a:gd name="adj3" fmla="val 16667"/>
              </a:avLst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I want you!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…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to be involved!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07:01:55Z</dcterms:created>
  <dc:creator>WCDHS User</dc:creator>
  <dc:description/>
  <dc:language>en-US</dc:language>
  <cp:lastModifiedBy>MNS</cp:lastModifiedBy>
  <dcterms:modified xsi:type="dcterms:W3CDTF">2009-10-14T23:19:45Z</dcterms:modified>
  <cp:revision>47</cp:revision>
  <dc:subject/>
  <dc:title>The Game of Politics</dc:title>
</cp:coreProperties>
</file>